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B11-0799-49A8-AD43-2940D24E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17E-EECF-40DA-8355-3E3A1890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AB7-C8A3-4EDF-8247-7E5B1DD8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84F-C73A-4C20-9266-08D03061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FABA-57A9-493A-9FB7-267B29DC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266B-26EA-475D-8766-52A1C003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A718-FCBC-4520-8D00-448BABA3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FDDD-8CAB-4D07-89A8-D00351F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7EAE-C61A-4D47-A061-DD143FE3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2B3C-05AB-43E0-B164-00B6A8C5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3612-DC3B-48C7-A1E6-506B95EE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74D-ACD8-44AA-8ACA-7C697431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6B8D-79FA-4573-87D1-2413E0E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5582-2067-4CAE-A164-C2E04C6B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CA37-5B57-4B02-A48A-E9192C83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F624-EC1B-46BB-8D31-50DFCC7B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F3F9-B915-4CDC-B729-B24FA1C4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BD1-0CD0-49AE-A60B-B766C117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B9C-8114-4AEB-A318-D7F03F5B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DD1-6FF9-4A57-A2F3-D8898FDE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217-68FE-4F15-91A8-C9115BE0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5E5-0F96-480A-B0E6-94F477A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D0F-F83E-4D92-BFA2-022D30BB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170-8303-432F-8E58-1E8FE2E6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9507-D7CD-4D14-8B6D-9DBF983B4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682F-A524-403E-9215-01893E4A7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kissfaq.com/albumcovers/cover_bolton_large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b7"/>
                </a:solidFill>
                <a:latin typeface="Antique Olive"/>
              </a:rPr>
              <a:t>Fallacy: A False Idea</a:t>
            </a:r>
            <a:endParaRPr b="1" lang="en-US" sz="5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st Appeals can be FALLAC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likely to be fallaciou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ling to pity:  “I know you’re a good        man, and I have a dog who’s very, very ill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ling to prejud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ling to tradition: The 8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 of the Academy Award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st like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l to Reason/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l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ruis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hich is _____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781000">
            <a:off x="7362720" y="1058760"/>
            <a:ext cx="12430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ing the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you support the health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e plan of a man with that hai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 hominem – “to the ma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ing false cau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young people are turning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ke theft because there are fe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fewer Burger Kings every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lt by assoc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ael Bolton’s a thug and w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 how you feel about Michael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lton – you must be danger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85580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1676520" cy="181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3962520"/>
            <a:ext cx="2263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GGING the ques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lar rea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urity level for America                                      has gone up, so we must be                                                               in greater dang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quivocating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vague words like “freedom” or “justice” in whatever way you feel like to prove a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m doing this for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igh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Terrified Faces"/>
          <p:cNvPicPr/>
          <p:nvPr/>
        </p:nvPicPr>
        <p:blipFill>
          <a:blip r:embed="rId1"/>
          <a:stretch/>
        </p:blipFill>
        <p:spPr>
          <a:xfrm>
            <a:off x="228600" y="93600"/>
            <a:ext cx="4267080" cy="277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posing a straw m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using the issue by addressing only an extreme minority within your op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s think everyone else is going to </a:t>
            </a: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he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Her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confuse the issue by bringing up something that has nothing to do with the arg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e, you like Clinton, but you also like menu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5000" y="152280"/>
            <a:ext cx="3197160" cy="2249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9369200">
            <a:off x="0" y="4724280"/>
            <a:ext cx="22924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4582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se Dilem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don’t get an A it’s because Schwab hates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ice: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ither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get an A,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hate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lippery Slo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stepping stone theo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ep always leads to a terrible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let 1 country have nuclear weapons, then they’l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ave nuclear weapons and everyone will die. Is that what you w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213372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809400">
            <a:off x="7543800" y="151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7:54:20Z</dcterms:created>
  <dc:creator>\]</dc:creator>
  <dc:description/>
  <dc:language>en-US</dc:language>
  <cp:lastModifiedBy> </cp:lastModifiedBy>
  <dcterms:modified xsi:type="dcterms:W3CDTF">2009-03-18T17:50:51Z</dcterms:modified>
  <cp:revision>10</cp:revision>
  <dc:subject/>
  <dc:title>Fallacy: A False Ide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